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34BF-E2E0-48C9-96FD-116CC7932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FD28-D159-4144-A3D6-90256D520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2035-DBA0-499A-A71B-8B2B63686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A7F2-B6B1-4002-9203-0C58FFBA9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A3561F-3ADA-460F-ABB7-41D6C3C25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5A09EC-3A66-4AB1-BA17-E0AFBE1D9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91985F-C2E6-4484-B3E1-2C8B3782F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181C3F-4F46-46C9-A40A-50C89CE6A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2C1142-C5ED-4792-9282-20F1ADEFA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23EB92-03AB-4690-A9B5-125823B69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A456D1-9EAB-4B53-8876-0A80AFCE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B810-4F64-479F-9CC8-7F3852E3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0DBFCC-DC17-49E8-86ED-7AC3878D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C3B8F1-D833-40D0-A05E-067C1BF8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F255D1-6CDE-4E5C-8F9E-74C6EF27C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D9CD25-91B2-4BA1-9E83-3A76E7DAF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FCEF4F-A691-4405-A9DF-5FB04EF19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5D18-33FB-4B20-B108-3966BDA1B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A7FE-8CE7-4A78-BDC5-70C8C5934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FF48-29ED-48B5-9E92-5DC73D86E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E2FC-2949-4F0B-9B22-FDF63E11D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A5E7-BCAF-4A00-8308-31B3C11C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BA6F-927A-4159-8C75-789DECB5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2454-7BC0-4088-895F-4FCD2DFE4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5E3F0-5BAB-46C1-AB46-8E6F5B91A1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1BF48-A1BC-49FD-8E08-6DE7AE7F8D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" TargetMode="External"/><Relationship Id="rId2" Type="http://schemas.openxmlformats.org/officeDocument/2006/relationships/hyperlink" Target="http://www.turizm.ru/germany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676520" y="6854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Palace Script MT"/>
              </a:rPr>
              <a:t>Крупнейшие города Германи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7467480" y="4876920"/>
            <a:ext cx="1447920" cy="16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3300"/>
                </a:solidFill>
                <a:latin typeface="Tahoma"/>
              </a:rPr>
              <a:t>Куклина Н. 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3300"/>
                </a:solidFill>
                <a:latin typeface="Tahoma"/>
              </a:rPr>
              <a:t>КГП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ahoma"/>
              </a:rPr>
              <a:t>2 курс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ahoma"/>
              </a:rPr>
              <a:t>г.Сыктывка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i-main-pic" descr="Картинка 7 из 13826"/>
          <p:cNvPicPr/>
          <p:nvPr/>
        </p:nvPicPr>
        <p:blipFill>
          <a:blip r:embed="rId1"/>
          <a:stretch/>
        </p:blipFill>
        <p:spPr>
          <a:xfrm>
            <a:off x="2832120" y="1981080"/>
            <a:ext cx="3394080" cy="442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Этапы и сроки проведения проек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Всего 6 часов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1-2 часа: поиск информаци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2 часа : создание проект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1 час : защита проек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Информационные ресурс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http://ru.wikipedia.org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://www.turizm.ru/germany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www.ongermany.ru/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i-main-pic" descr="Картинка 38 из 81398"/>
          <p:cNvPicPr/>
          <p:nvPr/>
        </p:nvPicPr>
        <p:blipFill>
          <a:blip r:embed="rId1"/>
          <a:stretch/>
        </p:blipFill>
        <p:spPr>
          <a:xfrm>
            <a:off x="0" y="0"/>
            <a:ext cx="9144000" cy="6927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41360" y="184320"/>
            <a:ext cx="847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Какой город изображен на картинк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14400" y="5105520"/>
            <a:ext cx="731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Учебные предметы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Немецкий язык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Географ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09480" y="228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Участники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учащиеся 7-8 класс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i-main-pic" descr="Картинка 194 из 13826"/>
          <p:cNvPicPr/>
          <p:nvPr/>
        </p:nvPicPr>
        <p:blipFill>
          <a:blip r:embed="rId1"/>
          <a:stretch/>
        </p:blipFill>
        <p:spPr>
          <a:xfrm>
            <a:off x="3581280" y="1447920"/>
            <a:ext cx="24336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i-main-pic" descr="Картинка 14 из 5014"/>
          <p:cNvPicPr/>
          <p:nvPr/>
        </p:nvPicPr>
        <p:blipFill>
          <a:blip r:embed="rId1"/>
          <a:stretch/>
        </p:blipFill>
        <p:spPr>
          <a:xfrm>
            <a:off x="1295280" y="1219320"/>
            <a:ext cx="6782040" cy="48006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812960" y="336600"/>
            <a:ext cx="5807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4572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Основополагающий вопрос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81280" y="18288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Ка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413160" y="3384720"/>
            <a:ext cx="237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Тай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09680" y="48006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хранит Германия?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1000"/>
          </a:bodyPr>
          <a:p>
            <a:pPr marL="66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Проблемные вопрос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6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6960" indent="-66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Города Германии- какие они??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6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6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6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6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Частные вопрос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6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6960" indent="-66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Какой город является столицей Германи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6960" indent="-66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Какие города являются крупными в Германи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6960" indent="-66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Какие достопримечательности есть в этих городах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21000"/>
          </a:bodyPr>
          <a:p>
            <a:pPr marL="720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Цели проект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720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72000" indent="-720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Расширить кругозор учащихс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72000" indent="-720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Вызвать интерес к изучению иностранного язык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72000" indent="-720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Научить поиску информации в Интернет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marL="1166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Задачи проект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66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6640" indent="-116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Познакомить учащихся со страной изучаемого язык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16640" indent="-116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Изучить историю стран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16640" indent="-116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Представить на рассмотрение крупные город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16640" indent="-116640">
              <a:lnSpc>
                <a:spcPct val="80000"/>
              </a:lnSpc>
              <a:spcBef>
                <a:spcPts val="2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Выделить знаменитые достопримечательности</a:t>
            </a:r>
            <a:r>
              <a:rPr b="0" lang="en-US" sz="800" spc="-1" strike="noStrike">
                <a:solidFill>
                  <a:srgbClr val="ffff00"/>
                </a:solidFill>
                <a:latin typeface="Tahoma"/>
              </a:rPr>
              <a:t> .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04920" y="533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1000"/>
          </a:bodyPr>
          <a:p>
            <a:pPr marL="1062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Темы для самостоятельной работ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062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06200" indent="-106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История Германи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06200" indent="-106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Столица Германии- Берлин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06200" indent="-106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Крупные города Германи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06200" indent="-106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Достопримечательности стран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Результаты представления работ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Презентац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Доклад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Реферат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Буклет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Веб-сай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_08</cp:lastModifiedBy>
  <dcterms:modified xsi:type="dcterms:W3CDTF">2009-10-23T10:54:00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